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3.wmf" ContentType="image/x-wmf"/>
  <Override PartName="/ppt/media/image22.wmf" ContentType="image/x-wmf"/>
  <Override PartName="/ppt/media/image21.png" ContentType="image/png"/>
  <Override PartName="/ppt/media/image20.png" ContentType="image/png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24.png" ContentType="image/png"/>
  <Override PartName="/ppt/media/image1.png" ContentType="image/png"/>
  <Override PartName="/ppt/media/image15.wmf" ContentType="image/x-wmf"/>
  <Override PartName="/ppt/media/image14.wmf" ContentType="image/x-wmf"/>
  <Override PartName="/ppt/media/image4.wmf" ContentType="image/x-wm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861E-8B44-4459-BD67-B18772D7837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9511-A54D-49B4-A882-BD3ABF6E06F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9040-F342-4401-B26B-E24784C0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8357-54B3-4EDB-A862-358BE2F8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51AF-E684-43FE-AB36-1DFD2079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AB-A5F4-4B31-8D42-E7E8C2AE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C02B-52B3-4F5E-9E5E-AA1B1A41D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48C5-209C-47C6-87E6-1536FAA9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1D7-3E02-4D88-AD2B-D1252A67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2009-7DCF-438C-B222-2B5028F7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64CB-9E0C-4916-9A7B-20D2490FA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2296-B545-4EDC-93DD-BDE051C5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744ED-14B2-4075-B345-E83A5911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D892-BDD0-4EEF-8CA8-B98E748F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AD5F-F494-40D0-A866-93343E4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59CD-6EA5-45AA-B3A1-91095FEC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42DC-A1F3-47CF-B54D-83D2995F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DA50-301F-49B0-B6A7-9095EE91C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BC5B-1420-4A6A-A465-EB829F86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CB74-E4AC-4346-B939-6AC5B7544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EB6A0-7269-43B3-8B37-015B646C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CF77-79A1-47C0-9493-5FE8698D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04858-C18A-4552-A43F-E4371FFA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62928-F3B9-4854-A663-A9290DA5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CC6-A2A3-4F12-B018-5265B771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FD8F-E5F1-40F2-9570-61B0D01F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EEB5-20CF-48C7-9124-0418A1DE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7829A-846B-41E5-BE75-9F97F955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935B-3C05-4C54-B94A-D0A6FFEC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313D9-F80F-480A-9AC6-93A03D64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D14AB-742E-4FE5-88AD-32E9EEFD4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BF8D1-7D38-43DF-8A93-3A6884C1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38766-F9D1-4C29-A885-8CCFEA245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5B86F-2B84-4A37-9601-6E78AC3F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527F5-257B-4FE9-BE98-3F807D05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E39-63F6-4E5E-93AB-987210D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27082-513E-49CA-895C-452D4411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9732-A75D-42C3-8E39-6EB75AE6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42C23-B597-473B-9622-E9E74067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1A0E1-CAFD-4290-83DD-53829AE1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3D4C1-46BD-4A38-A3E0-2C69B41D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77659-D293-4258-BD16-81708F70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6E89D-8835-4D75-A3CA-B86480BB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889D-6FB8-4263-979A-17F4465E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591C-2E09-41B7-9C9C-C40B3B11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F9A2-676B-4669-AE92-E96716BE3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2F03-4E53-4ACD-B95C-2C9A4357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4541A-1690-49B5-9563-D7525EA6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E4472-1130-4D5C-BC95-423A248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C06D-8A31-4F7A-B169-0914C436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B7FD-BF6A-42B5-A026-A48CDA6A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D3CD4-A111-4C11-A2D7-A01DEB1B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70C3D-3D7D-43D7-98F6-284A8DAD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1F8AB-62DA-48C5-9A45-1ED435CC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39F9-BCA8-46E3-AE7D-13B985F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CFBCC-D685-4918-803B-6251F22D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07602-8F38-495A-9A84-5CD92584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D21-9357-43D2-980F-72556010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6E92D-14CE-4AD3-B3A3-0EA70BDC4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A630-A5AB-443E-93DC-6F44B02F8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AA5-B07A-4CDD-AAFA-5425CE15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A662-B71B-4A46-A116-6A8146C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ttangolo arrotondato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ettangolo arrotondato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ettangolo arrotondato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C942-A8B0-44B0-88D4-03074E7F10EA}" type="slidenum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ettangolo arrotondato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F30F8-7F93-4FCE-B4C3-52D0E265CA7B}" type="slidenum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ettangolo arrotondato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ettangolo arrotondato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FFD2-AE88-4F34-834E-5F1D6E8358B3}" type="slidenum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6FB-6603-493A-87BA-8F16DABA8CCA}" type="slidenum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18c7f"/>
            </a:gs>
            <a:gs pos="100000">
              <a:srgbClr val="f0eadc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ttangolo arrotondato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con singolo angolo arrotondato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80BF-4911-473E-AA8B-3B1B9435A02A}" type="slidenum">
              <a:rPr b="0" lang="it-IT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100" spc="-1" strike="noStrike">
                <a:solidFill>
                  <a:srgbClr val="ff8d3e"/>
                </a:solidFill>
                <a:latin typeface="Verdana"/>
              </a:rPr>
              <a:t>CLASSIFICAZIONE DEI RISCHI   </a:t>
            </a:r>
            <a:br>
              <a:rPr sz="4100"/>
            </a:b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79766f"/>
                </a:solidFill>
                <a:latin typeface="Verdana"/>
              </a:rPr>
              <a:t>D.L.gs.81/2008 e successive integrazioni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ttangolo 6166"/>
          <p:cNvSpPr/>
          <p:nvPr/>
        </p:nvSpPr>
        <p:spPr>
          <a:xfrm>
            <a:off x="826920" y="981000"/>
            <a:ext cx="7345440" cy="39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algn="just">
              <a:lnSpc>
                <a:spcPts val="2035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a base delle disposizioni legislative si può ritenere che l'esistenza di un "rischio" chimico possa derivare dall'insieme di tre fattor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lnSpc>
                <a:spcPts val="2035"/>
              </a:lnSpc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vità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inseca potenziale dell'agente chim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lnSpc>
                <a:spcPts val="2035"/>
              </a:lnSpc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rata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l'effettiva esposizione all'agente chimico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lnSpc>
                <a:spcPts val="2035"/>
              </a:lnSpc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sposizion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livello di), sia qualitativa sia quantitativ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due ultimi fattori concorrendo a definire </a:t>
            </a:r>
            <a:r>
              <a:rPr b="0" i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ntità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 esposizione effettiva del lavoratore all'agente chimico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>
              <a:lnSpc>
                <a:spcPts val="2035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utazione del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chio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è stata pertanto strutturata attraverso una sequenza che prevede un procedimento moltiplicativo fra i tre fattori sopra definit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lla base di considerazioni teoriche e applicative, si è ritenuto opportu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nderar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re fattori secondo le scale che si riportano nelle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guenti tabell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0000" algn="just">
              <a:lnSpc>
                <a:spcPts val="203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539640" y="549360"/>
          <a:ext cx="7718400" cy="2663640"/>
        </p:xfrm>
        <a:graphic>
          <a:graphicData uri="http://schemas.openxmlformats.org/drawingml/2006/table">
            <a:tbl>
              <a:tblPr/>
              <a:tblGrid>
                <a:gridCol w="2409840"/>
                <a:gridCol w="2411640"/>
                <a:gridCol w="2896920"/>
              </a:tblGrid>
              <a:tr h="38736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TTORE GRAV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06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 ATTRIBU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VITA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FET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e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versibi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zialmente irreversibi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4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curamente irreversibi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128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reversibili gra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to 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sibilmente letal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43" name="Picture 1" descr=""/>
          <p:cNvPicPr/>
          <p:nvPr/>
        </p:nvPicPr>
        <p:blipFill>
          <a:blip r:embed="rId1"/>
          <a:stretch/>
        </p:blipFill>
        <p:spPr>
          <a:xfrm>
            <a:off x="519120" y="3860640"/>
            <a:ext cx="7738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611280" y="1197000"/>
          <a:ext cx="7489800" cy="2879640"/>
        </p:xfrm>
        <a:graphic>
          <a:graphicData uri="http://schemas.openxmlformats.org/drawingml/2006/table">
            <a:tbl>
              <a:tblPr/>
              <a:tblGrid>
                <a:gridCol w="2695320"/>
                <a:gridCol w="2082960"/>
                <a:gridCol w="2711520"/>
              </a:tblGrid>
              <a:tr h="590400"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ATTORE ES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080">
                <a:tc>
                  <a:txBody>
                    <a:bodyPr lIns="25560" rIns="25560" tIns="0" bIns="0" anchor="t">
                      <a:noAutofit/>
                    </a:bodyPr>
                    <a:p>
                      <a:pPr marL="1731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LORE ATTRIBUI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OSI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76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DIZIONE OPE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25560" rIns="25560" tIns="0" bIns="0" anchor="t">
                      <a:noAutofit/>
                    </a:bodyPr>
                    <a:p>
                      <a:pPr marL="7239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00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scurab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mente 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400">
                <a:tc>
                  <a:txBody>
                    <a:bodyPr lIns="25560" rIns="25560" tIns="0" bIns="0" anchor="t">
                      <a:noAutofit/>
                    </a:bodyPr>
                    <a:p>
                      <a:pPr marL="795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380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e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49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mente 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>
                  <a:txBody>
                    <a:bodyPr lIns="25560" rIns="25560" tIns="0" bIns="0" anchor="t">
                      <a:noAutofit/>
                    </a:bodyPr>
                    <a:p>
                      <a:pPr marL="792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25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660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25560" rIns="25560" tIns="0" bIns="0" anchor="t">
                      <a:noAutofit/>
                    </a:bodyPr>
                    <a:p>
                      <a:pPr marL="785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07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487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co 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25560" rIns="25560" tIns="0" bIns="0" anchor="t">
                      <a:noAutofit/>
                    </a:bodyPr>
                    <a:p>
                      <a:pPr marL="7858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371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289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sai poco 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5200">
                <a:tc>
                  <a:txBody>
                    <a:bodyPr lIns="25560" rIns="25560" tIns="0" bIns="0" anchor="t">
                      <a:noAutofit/>
                    </a:bodyPr>
                    <a:p>
                      <a:pPr marL="7891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18252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lto 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marL="514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 protet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25560" marR="255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128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2375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8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684360" y="420840"/>
            <a:ext cx="7827840" cy="64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78000" y="765000"/>
            <a:ext cx="8370720" cy="47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090440" y="814320"/>
            <a:ext cx="696132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8d3e"/>
                </a:solidFill>
                <a:latin typeface="Verdana"/>
              </a:rPr>
              <a:t>CLASSIFICAZIONE DEI RISCHI  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Rischi connessi con gli ambienti di lavoro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Rischi Fisici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1 Rischi meccanic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2 Rischio microclima/illuminazione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3 Rischi elettrici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4 Campi elettromagnetici      (dal 30 aprile 2012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5 Radiazioni ottiche di origine artificiale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6 Radiazioni ionizzant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7 Rumore e/o ultrasuoni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8 Infrasuo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9 Vibrazioni meccan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2.10 Atmosferiche iperbari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o incend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himic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1332000" y="1001880"/>
            <a:ext cx="6048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3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422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8288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971640" y="841320"/>
            <a:ext cx="720072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ttangolo 1"/>
          <p:cNvSpPr/>
          <p:nvPr/>
        </p:nvSpPr>
        <p:spPr>
          <a:xfrm>
            <a:off x="1116000" y="765000"/>
            <a:ext cx="705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5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ancerogeni e mutagen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onnessi all’esposizione all’amianto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7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biologici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onnessi con atmosfere esplosiv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9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organizzativi/psico-social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9.1   mobbing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9.2   burn out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9.3  stress da lavoro correlato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0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ergonomic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0.1   postazioni incongrue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0.2   movimentazione manuale dei carichi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10.3   videoterminali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1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Lavoratrici in stato di gravidanza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2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onnessi alle differenze di genere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3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onnessi alla provenienza da altri paesi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14.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Rischi connessi all’età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900000" y="792000"/>
            <a:ext cx="79171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41360" y="692280"/>
            <a:ext cx="83725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1433520" y="115920"/>
            <a:ext cx="63784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95280" y="1087560"/>
            <a:ext cx="832176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ttangolo 1" descr=""/>
          <p:cNvPicPr/>
          <p:nvPr/>
        </p:nvPicPr>
        <p:blipFill>
          <a:blip r:embed="rId1"/>
          <a:stretch/>
        </p:blipFill>
        <p:spPr>
          <a:xfrm>
            <a:off x="682560" y="517680"/>
            <a:ext cx="8064720" cy="1566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http://www.associazionesara.eu/wp-content/uploads/2014/03/9-760x760.png"/>
          <p:cNvPicPr/>
          <p:nvPr/>
        </p:nvPicPr>
        <p:blipFill>
          <a:blip r:embed="rId2"/>
          <a:stretch/>
        </p:blipFill>
        <p:spPr>
          <a:xfrm>
            <a:off x="611280" y="249552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3"/>
          <a:stretch/>
        </p:blipFill>
        <p:spPr>
          <a:xfrm>
            <a:off x="3187800" y="2459160"/>
            <a:ext cx="2679480" cy="18777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4"/>
          <a:stretch/>
        </p:blipFill>
        <p:spPr>
          <a:xfrm>
            <a:off x="5867280" y="3500280"/>
            <a:ext cx="267984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611280" y="409680"/>
            <a:ext cx="7777080" cy="61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2T06:07:32Z</dcterms:created>
  <dc:creator>Gaetano</dc:creator>
  <dc:description/>
  <dc:language>en-US</dc:language>
  <cp:lastModifiedBy>Gaetano</cp:lastModifiedBy>
  <dcterms:modified xsi:type="dcterms:W3CDTF">2016-03-12T14:32:54Z</dcterms:modified>
  <cp:revision>37</cp:revision>
  <dc:subject/>
  <dc:title>CLASSIFICAZIONE DEI RISCHI</dc:title>
</cp:coreProperties>
</file>